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0DC-4083-49C1-8BAD-B7564478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BE9-A5BE-45DD-9C41-B8282BD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FDF-93EA-4505-8838-D9767515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BB2-0F2D-4E3C-928D-5F33C9A7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74E-986F-4402-9D87-E446D55A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49C-CDF6-41BA-AB85-2C17C459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F69-40E0-4C9F-A00E-C3763BC4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4A5-93BC-4ED0-AD03-882B9967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679-DE82-46C4-9A1F-8C45F6FB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B64-A9F7-401F-BE78-D6BAFCF6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826-259D-4157-B51E-D4BF15A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70F-6C18-4637-BC91-4D29B68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611-4AC3-4260-BA19-FD2969ECC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and Location of National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y of Park (may be bullets of paragraph. Must include when it was founded and why it is impor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 of Park you have cho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laces to vis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at least three, can add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que animals in the p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at least 3, can b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can experiencing nature change the way you feel about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this question with examples from your research. May be bullets or paragraph fo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23:53:37Z</dcterms:created>
  <dc:creator>Jennifer</dc:creator>
  <dc:description/>
  <dc:language>en-US</dc:language>
  <cp:lastModifiedBy>Jennifer</cp:lastModifiedBy>
  <dcterms:modified xsi:type="dcterms:W3CDTF">2013-10-09T00:08:35Z</dcterms:modified>
  <cp:revision>3</cp:revision>
  <dc:subject/>
  <dc:title>Name and Location of National Park</dc:title>
</cp:coreProperties>
</file>